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677-63E2-4083-A2CE-6456BDB790B8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BD1-0063-4E5D-A5D1-F7B1865559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EF9-9C02-408A-BFB9-602F644ACA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C86-B9F5-41F4-B652-60870094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31F-CC39-4BDE-A4F7-802843B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922-3ADC-450F-AFFE-2D88DC12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F39-481F-4FC5-AB08-E3D0D9A5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F4B-5E94-451C-BCA0-822AC8A7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874-9517-4890-994E-73902C3B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D9C6-27D8-4E6A-B1FE-D8461E9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1A06-8F47-477A-BC4E-4E4B4BD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6A0-3F0A-4BEA-B49A-6518514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FA3-E715-499F-9F7D-DC871B3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C72B-641D-4E2C-A28C-BB3D6F6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8B1-C7FD-4414-A39B-EDEB53E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6E2-6AD6-41DB-B5A5-316F913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DA9C-AC40-4EA5-96F5-118C5A8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2BA8-E816-4C84-B90E-277A3247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C945-851A-4F9D-A59B-2DD4DD09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383-3520-4899-BF2A-1646FC57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4FBD-C7D4-4282-8CC7-2F65DB9C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7CB0-BFFA-4B04-AC61-576B2B4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CD2A-B32C-4274-B4CA-C822086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A6D7-A4B3-4EE2-8FF5-C2E06AD7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786F-7642-446A-8AE5-0FB40CE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30C-D2E1-4C88-A248-0524413E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D833-226E-4811-8AA2-A8D5B88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B9F9-366A-49F6-9938-C3E2F88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6A3A-4F61-408B-BB95-78AB786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C951-AAD2-4D41-9DBC-EC6783A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9E7E-A23F-4211-AB32-159F613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EDBB-1773-4C20-8EB8-1EF27E0C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BFF9-1BD8-478C-82FD-DF94D74F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8864-AE1C-4D80-9B64-DEBE01D7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06A6-7BCE-482E-9133-F24B19E7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E5A0-958A-42F5-BA09-6D5C08F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380-B04E-4C59-8FD7-09A8AC8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EB17-E191-4B9A-89CD-BAF0C413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0074-1897-4537-9FA4-BB18E3E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E703-B955-49A3-A7FA-3A10899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28CD-6CB6-4CD7-A003-5003A2D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811B-5DF0-44FA-BF16-3B721CD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7BBD-D92A-49B0-B37C-9A0C49C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2353-978C-4F45-8E88-FAD0D8C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3857-5656-4341-8D31-D544214C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B9D1-F924-4F81-B75B-7A9444C8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5DE-F0C6-4B49-AB50-7A4C994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A2B-0AB9-4C23-B323-2365179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764-2A87-4197-8D0B-7985216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442-BADA-4699-92E5-3EF34E3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D78-62CF-42AC-BB27-F3F7620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671D-7319-4FFF-8C0B-22C780722EE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81A-5053-42A9-A7C2-1B97901866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FBF-C2F6-478E-96C8-74F14643AD3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F3D-CFAF-44CB-9992-23456B6BE03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7F7A-C8CE-494E-8CFD-EB27FA799F6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929-B5E0-4B38-8DE5-85DE8A96CD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9AC-651A-44F9-B59B-40BA28998D6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268-C480-4E95-AB93-53414B0560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face Area of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us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re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Metal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Concrete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Cost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*this is where a table will go*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is is where our answer will 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use like, it just is, 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(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.- no, not really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 is where we write a justification that is not yet thought of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mean, we have to think ab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12:13Z</dcterms:created>
  <dc:creator>Cara Leong</dc:creator>
  <dc:description/>
  <dc:language>en-US</dc:language>
  <cp:lastModifiedBy>Cara Leong</cp:lastModifiedBy>
  <dcterms:modified xsi:type="dcterms:W3CDTF">2008-11-30T11:53:36Z</dcterms:modified>
  <cp:revision>12</cp:revision>
  <dc:subject/>
  <dc:title>Storage Facilities</dc:title>
</cp:coreProperties>
</file>